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751-183E-4966-8258-C5BCA5EA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264-944F-4F86-867C-14B56D2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A31-4B41-45CB-B34E-7FF395F5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DD5-36FB-4EE3-94AD-3C222A2E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E96D-CF70-4D9F-AD05-B6B5AF1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9349-8C5B-45B7-B272-29770D8E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95F5-01C2-4302-A540-A333827D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D06-3CD2-40E2-AEA7-8D0AE7BE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0718-EFBF-44E8-9D4A-CFD739A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EC3-CF93-4EAB-A1E8-3CC33B7C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1CC4-66C3-48B5-A48A-10C78AF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457-7C9D-48F2-896A-8F3AE5E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C890-9CEA-401A-964C-150B970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07A6-D963-4FAA-9834-1AB2569C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FFD-E66D-49E5-A45C-1E43DD8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E13E-9124-42F0-99E6-95787E0A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B3CC-ABFC-4ECC-8020-844195EB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D7D-D770-4074-9249-29FACCF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1B1-6C96-47B1-98B6-242678E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CB8-F788-4013-951D-3C232BAE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842-684D-4E43-ABBB-3A808F0C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8B4-9B73-4869-B151-014146F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7C1-0C59-4860-BB7A-FAE4D9B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59D-B45D-42DE-922B-DB09A1B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436-872F-4F3E-9ACA-C664693797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5A57-FAFC-4562-9DF9-CD521BE6B1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Complex Sent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105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108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pendent clause 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Garamond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114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Cla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s are used to join a dependent claus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dependent cla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dependent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the sentence. The comma mu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 walked down the hallway , I could hear the echo of my footste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 flipH="1">
            <a:off x="5486400" y="4359240"/>
            <a:ext cx="57456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 is used when the dependent cla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dependent clause. Then,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s are joined without any punc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lete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;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557680" y="392904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557680" y="5025960"/>
            <a:ext cx="1084320" cy="618840"/>
            <a:chOff x="5557680" y="5025960"/>
            <a:chExt cx="1084320" cy="618840"/>
          </a:xfrm>
        </p:grpSpPr>
        <p:sp>
          <p:nvSpPr>
            <p:cNvPr id="126" name="Text Box 7"/>
            <p:cNvSpPr/>
            <p:nvPr/>
          </p:nvSpPr>
          <p:spPr>
            <a:xfrm>
              <a:off x="6053040" y="5276520"/>
              <a:ext cx="588960" cy="36828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 flipV="1">
              <a:off x="5557680" y="5025960"/>
              <a:ext cx="4636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6151680" y="4410000"/>
            <a:ext cx="997920" cy="368280"/>
            <a:chOff x="6151680" y="4410000"/>
            <a:chExt cx="997920" cy="368280"/>
          </a:xfrm>
        </p:grpSpPr>
        <p:sp>
          <p:nvSpPr>
            <p:cNvPr id="129" name="Text Box 6"/>
            <p:cNvSpPr/>
            <p:nvPr/>
          </p:nvSpPr>
          <p:spPr>
            <a:xfrm>
              <a:off x="6561000" y="4410000"/>
              <a:ext cx="588600" cy="368280"/>
            </a:xfrm>
            <a:prstGeom prst="rect">
              <a:avLst/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 flipV="1">
              <a:off x="6151680" y="441000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Subordinating (Dependent) Conjun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undations Fir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. 1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ound-Complex Sen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138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1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142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ound-Complex Sent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4680" y="304560"/>
            <a:ext cx="8292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ow know everything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2424240"/>
            <a:ext cx="80010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write anything you want to writ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way you want to write i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till get the punctuation right each ti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ild’s endless crying is very disturbing to her par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got a cup of coffee and turned on his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 contains a subject(s)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b(s), but it does not make sense when 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by itself because it begins 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b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upposed to jo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o an in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he has had a terrible cold all wee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 got to the office and checked my email this mo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Simple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mple sentence is 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period or semicol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ound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made up of two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imple sentences joined by one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a and a coordinating con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 and a conjunctive adverb or transitional 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ordinating Conj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e coordinating conjunctions by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ronym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NBO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and Transitional Expr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junctive adver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anted to cash my che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fortunat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bank was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ansi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phrase that shows that relation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use a job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 the other h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ike having free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Compound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comma and a 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 ther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lex sentenc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o which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been ad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ordinating conjunction join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cla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to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I like to study grammar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30T23:29:26Z</dcterms:created>
  <dc:creator>Linda J. Stine</dc:creator>
  <dc:description/>
  <dc:language>en-US</dc:language>
  <cp:lastModifiedBy>KISD</cp:lastModifiedBy>
  <dcterms:modified xsi:type="dcterms:W3CDTF">2011-03-29T16:05:06Z</dcterms:modified>
  <cp:revision>54</cp:revision>
  <dc:subject/>
  <dc:title>Writing Complex Sentences</dc:title>
</cp:coreProperties>
</file>